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484280" y="900000"/>
            <a:ext cx="4587840" cy="34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2036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eeee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F1542-D8E7-425B-8C7F-67CEFE8D9024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60B10-BF72-44E3-82A4-37719223C726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D3AB9-BCAA-4D6B-BBA8-9338CE3F0421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87B84-5903-48A7-9B22-2AE2642CA4B0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1C249-C052-4C79-8733-AE723A931003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79A0F-7A18-4AD5-AF6D-2DBCF10691C5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36612-098A-4F9F-B41C-B50E49C80E18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BAA87-9C02-4CB5-A5F3-F36E5F81ACE0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71DAA-80F3-4896-A6A3-17F3B0F2EC4E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A1727-BA62-42CF-8313-D80D6395C954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559E8-A737-4752-BA47-AD7634B35FE1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85744-90AE-4B45-9FD0-4D077216EE29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3033E-AECF-4D64-B445-312CF2D4C234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0767B-B8B4-4B62-B687-0F9FB03BC8E0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D5BD0-FA17-46DB-90E8-04AB27B4334B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1BAD2-7EC9-4005-B888-9E04C48EA23C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4E15F-562A-4E60-A557-EE16188382AB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7949D-C898-4866-886A-998EE46BCDAD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2C47F-1564-4BF5-8039-74DF5B965589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3CAB8-7CA7-4BC7-9F02-0A1C897F37E3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6FD9D-6DB0-4EFB-B166-383AD2B5FD0D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4EC68-DEF9-495E-83F6-F165E639D423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6760" cy="34419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20360" y="4679640"/>
            <a:ext cx="61196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4857-4570-461C-ABBF-D4846879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348920"/>
            <a:ext cx="899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9280" y="3228840"/>
            <a:ext cx="899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88A-DE80-409F-8185-4E481DFA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280" y="134892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0160" y="134892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9280" y="322884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50160" y="322884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621-68CD-4985-85AF-16C540FB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1348920"/>
            <a:ext cx="2897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1640" y="1348920"/>
            <a:ext cx="2897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24360" y="1348920"/>
            <a:ext cx="2897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9280" y="3228840"/>
            <a:ext cx="2897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1640" y="3228840"/>
            <a:ext cx="2897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24360" y="3228840"/>
            <a:ext cx="289728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52EA-8C58-4A24-ABCF-3C47A4B6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9280" y="1348920"/>
            <a:ext cx="899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A57-F209-4DBB-A51E-EA708BB7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348920"/>
            <a:ext cx="899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BB6-CB0B-4E29-9455-6FCADF72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1348920"/>
            <a:ext cx="4390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160" y="1348920"/>
            <a:ext cx="4390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2A05-7F7B-45CB-B28D-20250BA0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D2B-79CC-4939-BF10-49209B8A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449280"/>
            <a:ext cx="86392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393-2161-4552-8E8E-1FF46C5E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34892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0160" y="1348920"/>
            <a:ext cx="4390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22884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EDF8-BF53-4C01-9C6E-EB969A6B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348920"/>
            <a:ext cx="4390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0160" y="134892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0160" y="322884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8F7B-B965-49AB-B8DE-B03C44B4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34892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160" y="1348920"/>
            <a:ext cx="439092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228840"/>
            <a:ext cx="8998200" cy="1716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2849-6D74-4419-894F-1BCD39F3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rot="16200000">
            <a:off x="43560" y="538560"/>
            <a:ext cx="855720" cy="720720"/>
          </a:xfrm>
          <a:prstGeom prst="parallelogram">
            <a:avLst>
              <a:gd name="adj" fmla="val 30980"/>
            </a:avLst>
          </a:prstGeom>
          <a:solidFill>
            <a:srgbClr val="b5e77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7640640" y="100080"/>
            <a:ext cx="1201680" cy="371520"/>
          </a:xfrm>
          <a:prstGeom prst="parallelogram">
            <a:avLst>
              <a:gd name="adj" fmla="val 88364"/>
            </a:avLst>
          </a:prstGeom>
          <a:solidFill>
            <a:srgbClr val="81aca6">
              <a:alpha val="39000"/>
            </a:srgbClr>
          </a:solidFill>
          <a:ln w="0">
            <a:noFill/>
          </a:ln>
          <a:effectLst>
            <a:outerShdw dist="0" dir="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270000" y="179280"/>
            <a:ext cx="9539280" cy="485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182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969320" y="162000"/>
            <a:ext cx="904680" cy="1143000"/>
          </a:xfrm>
          <a:prstGeom prst="rect">
            <a:avLst/>
          </a:prstGeom>
          <a:solidFill>
            <a:srgbClr val="81a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270000" y="471600"/>
            <a:ext cx="8931240" cy="630000"/>
          </a:xfrm>
          <a:prstGeom prst="rect">
            <a:avLst/>
          </a:prstGeom>
          <a:solidFill>
            <a:srgbClr val="b5e77d"/>
          </a:solidFill>
          <a:ln w="10800">
            <a:solidFill>
              <a:srgbClr val="91d93f"/>
            </a:solidFill>
            <a:round/>
          </a:ln>
          <a:effectLst>
            <a:outerShdw dist="17819" dir="2700000" blurRad="0" rotWithShape="0">
              <a:srgbClr val="b2b2b2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539280" y="1348920"/>
            <a:ext cx="89982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9640" y="449280"/>
            <a:ext cx="86392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02920" y="5164200"/>
            <a:ext cx="23461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448080" y="5164200"/>
            <a:ext cx="319392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26280" y="5164200"/>
            <a:ext cx="234648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eeeeee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7C213C-151C-4974-B1C8-1DFB3F959D64}" type="slidenum">
              <a:rPr b="0" lang="ru-RU" sz="1400" spc="-1" strike="noStrike">
                <a:solidFill>
                  <a:srgbClr val="eeeee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111240" y="471600"/>
            <a:ext cx="247680" cy="630000"/>
          </a:xfrm>
          <a:prstGeom prst="rect">
            <a:avLst/>
          </a:prstGeom>
          <a:solidFill>
            <a:srgbClr val="b5e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7969320" y="100080"/>
            <a:ext cx="904680" cy="79200"/>
          </a:xfrm>
          <a:prstGeom prst="rect">
            <a:avLst/>
          </a:prstGeom>
          <a:solidFill>
            <a:srgbClr val="81ac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98160"/>
            <a:ext cx="864072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сероссийский научно-исследовательский институт лесной генетики, селекции и биотехнолог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39280" y="1349280"/>
            <a:ext cx="899964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320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нализ компонентного состава экстрактов клена остролистного, мелколистного и бел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.Г. Ржевский</a:t>
            </a:r>
            <a:r>
              <a:rPr b="0" lang="ru-RU" sz="2000" spc="-1" strike="noStrike" baseline="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Е.А. Шабанова</a:t>
            </a:r>
            <a:r>
              <a:rPr b="0" lang="ru-RU" sz="2000" spc="-1" strike="noStrike" baseline="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М.А. Потапов</a:t>
            </a:r>
            <a:r>
              <a:rPr b="0" lang="ru-RU" sz="20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 baseline="33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ГБУ Всероссийский научно-исследовательский институт лесной генетики, селекции и био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 baseline="33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ГБОУ ВО Воронежский государственны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лен мелколистный (моно) -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Acer pictu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subsp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mo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rcRect l="4323" t="8520" r="5200" b="10524"/>
          <a:stretch/>
        </p:blipFill>
        <p:spPr>
          <a:xfrm>
            <a:off x="685800" y="1440000"/>
            <a:ext cx="507528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5940360" y="1433520"/>
            <a:ext cx="3071880" cy="28861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539640" y="4365720"/>
            <a:ext cx="88455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ественно произрастает в Японии, Корее, Китае, Монголии; в России распространен в Приморье и Приаму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лен белый (явор, клен псевдоплатановый) -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Acer pseudoplatanu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4323" t="8520" r="5200" b="16870"/>
          <a:stretch/>
        </p:blipFill>
        <p:spPr>
          <a:xfrm>
            <a:off x="720720" y="1260360"/>
            <a:ext cx="4859280" cy="306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940360" y="1295280"/>
            <a:ext cx="3348000" cy="30607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279360" y="4356000"/>
            <a:ext cx="96886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ый компонент дендрофлоры Европы,вплоть до востока Украи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ор — общий синоним для видов клена, сохранившийся в западнославянском ареа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тоди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1277640"/>
            <a:ext cx="55800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3672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</a:rPr>
              <a:t>Навеска в 10 г листьев заливалась 96% этанолом в соотношении 3:1, гомогенизировались и помещалась в термостат при 60⁰C на 12 часов, после чего сырье настаивалось при комнатной температуре еще двое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3672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</a:rPr>
              <a:t>Анализ проводился на хроматографе «Agilent 7890B GC System» с детектором масс «Agilent 5977A MSD». Обработка данных — на основе баз данных NIST11, с использованием ПО «MassHunter v. B.06.00» и «NIST MS Search 2.0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6300720" y="1619280"/>
            <a:ext cx="30607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езультаты исследов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899964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Доминирующие компоненты экстра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</a:rPr>
              <a:t>концентрация — в процентах от площади сумм пиков хроматограммы</a:t>
            </a: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0840" y="2289240"/>
          <a:ext cx="9361440" cy="1946160"/>
        </p:xfrm>
        <a:graphic>
          <a:graphicData uri="http://schemas.openxmlformats.org/drawingml/2006/table">
            <a:tbl>
              <a:tblPr/>
              <a:tblGrid>
                <a:gridCol w="3570120"/>
                <a:gridCol w="3513240"/>
                <a:gridCol w="2278080"/>
              </a:tblGrid>
              <a:tr h="63180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Клен остролистный Шведл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Клена б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Клен мелколист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3-O-метил-d-глюкоза </a:t>
                      </a:r>
                      <a:r>
                        <a:rPr b="0" lang="ru-RU" sz="1800" spc="-1" strike="noStrike">
                          <a:solidFill>
                            <a:srgbClr val="023f62"/>
                          </a:solidFill>
                          <a:latin typeface="MS Reference Sans Serif"/>
                        </a:rPr>
                        <a:t>9,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Фитол </a:t>
                      </a:r>
                      <a:r>
                        <a:rPr b="0" lang="ru-RU" sz="1800" spc="-1" strike="noStrike">
                          <a:solidFill>
                            <a:srgbClr val="023f62"/>
                          </a:solidFill>
                          <a:latin typeface="MS Reference Sans Serif"/>
                        </a:rPr>
                        <a:t>1,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Глютинол </a:t>
                      </a:r>
                      <a:r>
                        <a:rPr b="0" lang="ru-RU" sz="1800" spc="-1" strike="noStrike">
                          <a:solidFill>
                            <a:srgbClr val="023f62"/>
                          </a:solidFill>
                          <a:latin typeface="MS Reference Sans Serif"/>
                        </a:rPr>
                        <a:t>1,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1,30-Триаконтандиол </a:t>
                      </a:r>
                      <a:r>
                        <a:rPr b="0" lang="ru-RU" sz="1800" spc="-1" strike="noStrike">
                          <a:solidFill>
                            <a:srgbClr val="023f62"/>
                          </a:solidFill>
                          <a:latin typeface="MS Reference Sans Serif"/>
                        </a:rPr>
                        <a:t>1,96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 4-O-β-D-Галактопиранозил-β-D-глюкопиранозы </a:t>
                      </a:r>
                      <a:r>
                        <a:rPr b="0" lang="ru-RU" sz="1800" spc="-1" strike="noStrike">
                          <a:solidFill>
                            <a:srgbClr val="023f62"/>
                          </a:solidFill>
                          <a:latin typeface="MS Reference Sans Serif"/>
                        </a:rPr>
                        <a:t>1,22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 Октакозанал </a:t>
                      </a:r>
                      <a:r>
                        <a:rPr b="0" lang="ru-RU" sz="1800" spc="-1" strike="noStrike">
                          <a:solidFill>
                            <a:srgbClr val="023f62"/>
                          </a:solidFill>
                          <a:latin typeface="MS Reference Sans Serif"/>
                        </a:rPr>
                        <a:t>1,0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MS Reference Sans Serif"/>
                        </a:rPr>
                        <a:t>Ламинитол </a:t>
                      </a:r>
                      <a:r>
                        <a:rPr b="0" lang="ru-RU" sz="1800" spc="-1" strike="noStrike">
                          <a:solidFill>
                            <a:srgbClr val="023f62"/>
                          </a:solidFill>
                          <a:latin typeface="MS Reference Sans Serif"/>
                        </a:rPr>
                        <a:t>2,0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Хемосистематическая оценк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rcRect l="22895" t="0" r="24596" b="11852"/>
          <a:stretch/>
        </p:blipFill>
        <p:spPr>
          <a:xfrm>
            <a:off x="360360" y="1260360"/>
            <a:ext cx="2700360" cy="3780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060720" y="1619280"/>
            <a:ext cx="630072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Клен Шведлера и клен моно имеют незначительное сродство на фоне клена бел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Клен моно и клен остролистный (разновидностью которого является клен Шведлера) относится к секции Platanoidea Pax., клен белый – к секции Gemmata Poj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Результат анализа подтверждает традиционные систематические предста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щие биоактивные компонент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82760" y="1668600"/>
          <a:ext cx="8264520" cy="2239920"/>
        </p:xfrm>
        <a:graphic>
          <a:graphicData uri="http://schemas.openxmlformats.org/drawingml/2006/table">
            <a:tbl>
              <a:tblPr/>
              <a:tblGrid>
                <a:gridCol w="2212920"/>
                <a:gridCol w="2214360"/>
                <a:gridCol w="1919520"/>
                <a:gridCol w="1917720"/>
              </a:tblGrid>
              <a:tr h="373320">
                <a:tc>
                  <a:txBody>
                    <a:bodyPr lIns="36000" rIns="36000" tIns="536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Компонеты/ви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Шведл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Бел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Мо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36000" rIns="36000" tIns="536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γ-Ситостер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36000" rIns="36000" tIns="536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Фит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36000" rIns="36000" tIns="536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Стигмастер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36000" rIns="36000" tIns="536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Витамин 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36000" rIns="36000" tIns="536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β-Ами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53640" bIns="360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icrosoft YaHei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3600">
                      <a:solidFill>
                        <a:srgbClr val="000000"/>
                      </a:solidFill>
                    </a:lnL>
                    <a:lnR w="3600">
                      <a:solidFill>
                        <a:srgbClr val="000000"/>
                      </a:solidFill>
                    </a:lnR>
                    <a:lnT w="3600">
                      <a:solidFill>
                        <a:srgbClr val="000000"/>
                      </a:solidFill>
                    </a:lnT>
                    <a:lnB w="36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иологическая активность общих компонент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349280"/>
            <a:ext cx="899964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γ-Ситостерол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– фитостерин, снижает уровень липидов в крови, обладает антигипергликемической активн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Стигмастерол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– фитостерин, оказывает анксиолитический и противосудорожный эффе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Фитол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– одноненасыщенный  дитерпен, участвует в синтезе витаминов Е и K1; установлено его анксиолитическое, цитотоксическое, антиоксидантное, противовоспалительное и противомикробное де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β-Амирин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 – тритерпен; смесь его изомеров оказывает анальгезирующее, противовоспалительное, противосудорожное, антидепрессивное, антихолитическое, антигипергликемическое 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Витамин Е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– группа производных токоферола, обладающих антиоксидативными свойствами, являются протекторами клеточных мемб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Специфичные биоактивные компоненты клена Шведле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263600"/>
            <a:ext cx="899964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10800" bIns="0" anchor="t">
            <a:normAutofit/>
          </a:bodyPr>
          <a:p>
            <a:pPr indent="0" algn="just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Глютинол 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– пентациклический тритерпеноид, обладает противовоспалительной актив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Симиаренол – 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дитерпеноид, проявляет цитотоксическое действие против человеческих клеток THP-1 (острый моноцитарный лейкоз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Лупеол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тритерпеноид, обладает противоонколочиеской, антиоксидантной, противовоспалительной и антимикробной актив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Сквален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полиненасыщенный углеводород, компонент жира, обладает противоопухолевой, антиоксидантной</a:t>
            </a:r>
            <a:r>
              <a:rPr b="0" lang="en-US" sz="18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актив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Бетулинальдегид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производное бетулина, проявляет противоопухолевую активность, в отношении клеток A549 (онкологической ткани легког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Бетулин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– тритерпен, ингибирует метастазирование в легкие,  колоректального р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Специфические биоактивные компоненты клена белог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899964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8720" bIns="0" anchor="t">
            <a:normAutofit/>
          </a:bodyPr>
          <a:p>
            <a:pPr indent="0" algn="just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Хинная кислота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– циклогексанкарбоновая кислота, проявляет  антиоксидантную, противодиабетическую, противораковая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1-Гексакозанол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 – насыщенный первичный жирный спирт, проявил активность против золотистого стафилакок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Эмульфор 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– полиэтоксилированное растительное масло, используется для включения летучих органических соединений и в водные раств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S Reference Sans Serif"/>
              </a:rPr>
              <a:t>Этилизоаллохолат </a:t>
            </a: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– стероид, проявил цитотоксичность против клеток рака легких A5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Специфические биоактивные компоненты Клена мелколист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1349280"/>
            <a:ext cx="899964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 algn="just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S Reference Sans Serif"/>
                <a:ea typeface="Calibri"/>
              </a:rPr>
              <a:t>Ламинитол</a:t>
            </a: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  <a:ea typeface="Calibri"/>
              </a:rPr>
              <a:t> – ароматический спирт, действует как агонист в фосфоинозитидной системе передачи сигналов в клетку; препятствует росту</a:t>
            </a:r>
            <a:r>
              <a:rPr b="0" i="1" lang="ru-RU" sz="2000" spc="-1" strike="noStrike">
                <a:solidFill>
                  <a:srgbClr val="000000"/>
                </a:solidFill>
                <a:latin typeface="MS Reference Sans Serif"/>
                <a:ea typeface="Calibri"/>
              </a:rPr>
              <a:t> Neurospora crassa</a:t>
            </a: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  <a:ea typeface="Calibri"/>
              </a:rPr>
              <a:t>, то есть обладает фунгицидным эффек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S Reference Sans Serif"/>
                <a:ea typeface="Calibri"/>
              </a:rPr>
              <a:t>δ-, γ- Токоферол</a:t>
            </a: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  <a:ea typeface="Calibri"/>
              </a:rPr>
              <a:t> – компоненты витамина Е, оказывают антиоксидантное действ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349280"/>
            <a:ext cx="665964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</a:rPr>
              <a:t>Представители рода </a:t>
            </a:r>
            <a:r>
              <a:rPr b="0" i="1" lang="en-US" sz="1600" spc="-1" strike="noStrike">
                <a:solidFill>
                  <a:srgbClr val="000000"/>
                </a:solidFill>
                <a:latin typeface="MS Reference Sans Serif"/>
              </a:rPr>
              <a:t>Acer</a:t>
            </a:r>
            <a:r>
              <a:rPr b="0" i="1" lang="ru-RU" sz="1600" spc="-1" strike="noStrike">
                <a:solidFill>
                  <a:srgbClr val="000000"/>
                </a:solidFill>
                <a:latin typeface="MS Reference Sans Serif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S Reference Sans Serif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</a:rPr>
              <a:t>. – ценные породы, широко распространены в Европе, Азии и Северной Амер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</a:rPr>
              <a:t>Издревле играли важную роль в хозяйстве. ПИЕ:*klen: польск. klon, лит. klevas, латыш. kļava, валл. Cely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</a:rPr>
              <a:t>Обладают одной из наиболее ценных среди твердолиственных пород древесин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</a:rPr>
              <a:t>Многие виды являются медонос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Из некоторых видов добывается сахаристый сироп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Имеют многочисленные разновидности, отличающиеся по окраске и форме листьев, что делает их востребованными в декоративном озелен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199280" y="1440000"/>
            <a:ext cx="23400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49280"/>
            <a:ext cx="63007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 algn="just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1. Листья изучаемых видов отличаются по доминирующим в экстрактах и минорным компонентам, γ-ситостерол являлся общим для всех трех ви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575"/>
              </a:spcBef>
              <a:spcAft>
                <a:spcPts val="575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2. Клен моно и Шведлера проявляют между собой несколько большее сходство по составу, что соответствует традиционным систематическим представл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575"/>
              </a:spcBef>
              <a:spcAft>
                <a:spcPts val="233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S Reference Sans Serif"/>
              </a:rPr>
              <a:t>3. Наиболее богат специфичными веществами с доказанной биоактивностью в спиртовой экстракт листьев клена Шведл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7174080" y="1339920"/>
            <a:ext cx="254628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406520"/>
            <a:ext cx="5429520" cy="34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MS Reference Sans Serif"/>
              </a:rPr>
              <a:t>Cпиртовые экстракты листьев исследованных видов клена содержат широкий спектр биологически активных веществ, что делает перспективным их использование в фармацевтике, косметологии, пищевой промышленности, производстве кормов для живот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Благодарю за внимание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C:\Users\slava\OneDrive\Рабочий стол\клены\photo_2024-05-08_16-36-58.jpg"/>
          <p:cNvPicPr/>
          <p:nvPr/>
        </p:nvPicPr>
        <p:blipFill>
          <a:blip r:embed="rId1"/>
          <a:stretch/>
        </p:blipFill>
        <p:spPr>
          <a:xfrm>
            <a:off x="6397560" y="1440000"/>
            <a:ext cx="2522520" cy="33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380520"/>
            <a:ext cx="899964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ырье кленов, как источник биологически-активны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149120"/>
            <a:ext cx="665964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В листьях содержатся углеводы, алкалоиды, каратиноиды, витамины С и </a:t>
            </a:r>
            <a:r>
              <a:rPr b="0" lang="en-US" sz="2000" spc="-1" strike="noStrike">
                <a:solidFill>
                  <a:srgbClr val="000000"/>
                </a:solidFill>
                <a:latin typeface="MS Reference Sans Serif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, дубильные вещества, флавоноиды, антоцианы и др</a:t>
            </a: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Э</a:t>
            </a: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кстракты и их компоненты оказывают антиоксидантное, противоопухолевое, противовоспалительное, антидиабетическое,  воздействие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036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Clr>
                <a:srgbClr val="91d93f"/>
              </a:buClr>
              <a:buSzPct val="45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По данным этноботаники, засвидетельствовано применение экстрактов клена в медицине коренного населения Аме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7380360" y="1330200"/>
            <a:ext cx="23400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икроклональное размножение кле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1349280"/>
            <a:ext cx="45007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31640" indent="0" algn="just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ФГБУ ВНИИЛГИСбиотех ведется  разработка методики микроклонального размножения кл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just">
              <a:lnSpc>
                <a:spcPct val="93000"/>
              </a:lnSpc>
              <a:spcBef>
                <a:spcPts val="11"/>
              </a:spcBef>
              <a:spcAft>
                <a:spcPts val="1063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й метод в перспективе сможет обеспечить эффективное получение посадочного материала с сохранением селекционных св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5199120" y="1440000"/>
            <a:ext cx="41608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Экспланты и процесс их стерилизац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740640" y="1440000"/>
            <a:ext cx="2079360" cy="2879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rcRect l="0" t="5876" r="0" b="0"/>
          <a:stretch/>
        </p:blipFill>
        <p:spPr>
          <a:xfrm>
            <a:off x="306360" y="1260360"/>
            <a:ext cx="2594160" cy="288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>
            <a:off x="2700360" y="1909800"/>
            <a:ext cx="3600360" cy="2049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306360" y="4284720"/>
            <a:ext cx="9593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40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habanova, E. A. Features of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regeneration of valuable Norway maple trees / E. A. Shabanova // Plant Genetics, Genomics, Bioinformatics, and Biotechnology (PlantGen2023) : abstracts, Kazan, 10–15 июля 2023 года. – Kazan: «Fеn» Publishing House, 2023. – P. 3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культуры кле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66640" y="1332000"/>
            <a:ext cx="195444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2700360" y="1332000"/>
            <a:ext cx="1952640" cy="2925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008680" y="1368360"/>
            <a:ext cx="1831680" cy="2879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4"/>
          <a:stretch/>
        </p:blipFill>
        <p:spPr>
          <a:xfrm>
            <a:off x="7020000" y="1368360"/>
            <a:ext cx="1800000" cy="28796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441360" y="4500720"/>
            <a:ext cx="22590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н остроли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673360" y="4513320"/>
            <a:ext cx="2154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н серебри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4865760" y="4334040"/>
            <a:ext cx="2259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н остроли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д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4865760" y="4334040"/>
            <a:ext cx="22590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н остроли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ведл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020000" y="4334040"/>
            <a:ext cx="2298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ен мелколи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о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икросателлитный анализ видов кле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60360" y="1150920"/>
            <a:ext cx="4140360" cy="3349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720720" y="4319640"/>
            <a:ext cx="181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720720" y="4140360"/>
            <a:ext cx="86407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832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ендрограмма генетического сходства, полученная с  использованием  SSR-маркеров (rub. – 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A. rubrum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 sach. –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A. sacharinum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; pseud. –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A. pseudoplatanu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tat. –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A. tataricum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plat. –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A. platanoide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camp. –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A campestris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 neg. – 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A. negundo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rcRect l="0" t="0" r="0" b="11966"/>
          <a:stretch/>
        </p:blipFill>
        <p:spPr>
          <a:xfrm>
            <a:off x="4500720" y="1150920"/>
            <a:ext cx="360036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ъекты исследова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349280"/>
            <a:ext cx="54007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Объектами исследования послужили спиртовые экстракты листьев клена остролистного формы «Шведлера», клена мелколистного и клена бело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2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S Reference Sans Serif"/>
              </a:rPr>
              <a:t>Отбор материала производился в Воронежской области на территории лесопитомника ФГБУ ВНИИЛГИСбитоех и Семилукского лесопитом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6229440" y="1368360"/>
            <a:ext cx="349092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48920"/>
            <a:ext cx="8640720" cy="63036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ctr">
            <a:noAutofit/>
          </a:bodyPr>
          <a:p>
            <a:pPr indent="0"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лен остролистный Шведлера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- Acer platanoides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var.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 Schwedleri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4323" t="10106" r="7580" b="13697"/>
          <a:stretch/>
        </p:blipFill>
        <p:spPr>
          <a:xfrm>
            <a:off x="720720" y="1440000"/>
            <a:ext cx="4859280" cy="307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5940360" y="1424160"/>
            <a:ext cx="2890800" cy="3074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615960" y="4618080"/>
            <a:ext cx="101836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наружен в 1864 году Ц. Х. Шведлером в Верхней Силез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3T06:38:08Z</dcterms:created>
  <dc:creator>Станислав Р.</dc:creator>
  <dc:description/>
  <dc:language>en-US</dc:language>
  <cp:lastModifiedBy>Станислав Р.</cp:lastModifiedBy>
  <dcterms:modified xsi:type="dcterms:W3CDTF">2024-05-14T12:34:40Z</dcterms:modified>
  <cp:revision>41</cp:revision>
  <dc:subject/>
  <dc:title>Inspiration</dc:title>
</cp:coreProperties>
</file>